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2F8E-DF42-4FFF-9010-26A7A5B04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5EB7-5482-411B-A4CB-CB9EB00CD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D19E-F5DD-4627-9609-27569EB4B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C574-ACAB-4FC4-91D3-3CD95A2D4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84FF-45C2-4C28-8A46-F964B4E2D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A4F1-F94C-4DA6-A178-CA1CE0BC7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C7A1-319D-4C50-9E0D-D5E1B49EB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80A8-4524-4657-85D9-58D90E424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87BC-C468-42C8-914B-9DA0C565E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ABEA-76D5-4BF0-B67A-0A12B72E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7FC5-1383-4916-AE2C-37838C39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884D-AF58-4850-9DDD-30AA0966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9B433-3669-4FC1-A580-9D9DC0075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71800" y="1905120"/>
            <a:ext cx="3375000" cy="32065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flipH="1">
            <a:off x="5867280" y="1600200"/>
            <a:ext cx="990720" cy="914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1981080" y="3962160"/>
            <a:ext cx="1447920" cy="1066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6248160" y="327672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09680" y="33526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33720" y="1447920"/>
            <a:ext cx="1295280" cy="990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6019920" y="4038120"/>
            <a:ext cx="1295280" cy="68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05320" y="3049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yes Have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9T15:23:26Z</dcterms:created>
  <dc:creator>FCPS</dc:creator>
  <dc:description/>
  <dc:language>en-US</dc:language>
  <cp:lastModifiedBy>fcps</cp:lastModifiedBy>
  <dcterms:modified xsi:type="dcterms:W3CDTF">2009-02-17T14:37:39Z</dcterms:modified>
  <cp:revision>2</cp:revision>
  <dc:subject/>
  <dc:title>Slide 1</dc:title>
</cp:coreProperties>
</file>